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71B-2780-4E66-A367-AE509768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529-B692-4EE7-9084-5B3F0BF1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EB0-1E18-4FAE-8647-E7C16E1C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654-2A51-44EC-87B2-1319E700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437-6133-46FE-B3CE-7217DD5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3E7-2001-4715-A054-EF735442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A0A-9BE0-48B7-9848-A479B56B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3D8-4593-4915-9559-E986D13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33C-A0F5-452B-A4CF-E8A70206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B11-0919-42B0-8B5B-45F9BDD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CE9-0959-4CB8-A85F-D21BED7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60B-BFBD-4B6E-9927-9E6D935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527-95F6-4A33-891F-53789D399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tes.aip3.ogcnetwork.net/home/home/air-quality-health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IP-3 Update</a:t>
            </a:r>
            <a:br>
              <a:rPr sz="29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aip3.ogcnetwork.net/home/home/air-quality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Google Earth Interpolation.png"/>
          <p:cNvPicPr/>
          <p:nvPr/>
        </p:nvPicPr>
        <p:blipFill>
          <a:blip r:embed="rId2"/>
          <a:stretch/>
        </p:blipFill>
        <p:spPr>
          <a:xfrm>
            <a:off x="609480" y="44197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PULSENet Client Interpolation.png"/>
          <p:cNvPicPr/>
          <p:nvPr/>
        </p:nvPicPr>
        <p:blipFill>
          <a:blip r:embed="rId3"/>
          <a:stretch/>
        </p:blipFill>
        <p:spPr>
          <a:xfrm>
            <a:off x="1828800" y="5181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Bild 4" descr=""/>
          <p:cNvPicPr/>
          <p:nvPr/>
        </p:nvPicPr>
        <p:blipFill>
          <a:blip r:embed="rId4"/>
          <a:srcRect l="8501" t="3386" r="12027" b="0"/>
          <a:stretch/>
        </p:blipFill>
        <p:spPr>
          <a:xfrm>
            <a:off x="609480" y="203688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Bild 7" descr=""/>
          <p:cNvPicPr/>
          <p:nvPr/>
        </p:nvPicPr>
        <p:blipFill>
          <a:blip r:embed="rId5"/>
          <a:srcRect l="8501" t="2489" r="9622" b="0"/>
          <a:stretch/>
        </p:blipFill>
        <p:spPr>
          <a:xfrm>
            <a:off x="2286000" y="2798640"/>
            <a:ext cx="2209680" cy="1468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9907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OGC Sensor Observation Services, web processing services (spatial interpolation of point measurement data).  No changes made to AQ Community Infrastructure developed during AIP-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876920" y="480060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ing INTAMAP WPS Spatial Interpolation Output in the PULSENet Client and Google Earth for North American PM2.5 concentration measu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876920" y="22860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ing INTAMAP WPS Spatial Interpolation Output in the AGUILA Client showing the first quartile (A) and the cumulative probability of 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B) for European NO2 concentration measu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05:50Z</dcterms:created>
  <dc:creator>sf</dc:creator>
  <dc:description/>
  <dc:language>en-US</dc:language>
  <cp:lastModifiedBy>sf</cp:lastModifiedBy>
  <dcterms:modified xsi:type="dcterms:W3CDTF">2011-01-05T17:22:29Z</dcterms:modified>
  <cp:revision>1</cp:revision>
  <dc:subject/>
  <dc:title>AIP-3 Update http://sites.aip3.ogcnetwork.net/home/home/air-quality-health</dc:title>
</cp:coreProperties>
</file>